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wmf" ContentType="image/x-wmf"/>
  <Override PartName="/ppt/media/image14.png" ContentType="image/png"/>
  <Override PartName="/ppt/media/image8.gif" ContentType="image/gif"/>
  <Override PartName="/ppt/media/image21.wmf" ContentType="image/x-wmf"/>
  <Override PartName="/ppt/media/image7.gif" ContentType="image/gif"/>
  <Override PartName="/ppt/media/image20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5.jpeg" ContentType="image/jpeg"/>
  <Override PartName="/ppt/media/image22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4.wmf" ContentType="image/x-wmf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19AA-44CD-4FC1-A8AB-E7698AE5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C6C-987A-407E-914B-3B09DC02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D540-C7DF-4048-BAC4-B78987DB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C93-D3E5-4AA7-91C9-2155E19B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1E4-B10F-416F-B3FC-1848D3B8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F35-180B-4085-9D74-AF138CD6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BB83-CFE9-467F-91E8-BE32ADC0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30C-D8B1-4E6C-B198-1657CA96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5157-5689-4DF2-89C7-C98F3F47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8D2-2350-434D-A2F8-17B50748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217-4D42-410B-88D6-68484D6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AE3-4C05-4337-A28E-8D0B38E8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EEBE-3FB9-4DE4-A7A8-C57DB34BC06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image" Target="../media/image14.png"/><Relationship Id="rId9" Type="http://schemas.openxmlformats.org/officeDocument/2006/relationships/image" Target="../media/image13.png"/><Relationship Id="rId10" Type="http://schemas.openxmlformats.org/officeDocument/2006/relationships/image" Target="../media/image11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4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125360"/>
            <a:ext cx="8143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MATIO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aux de Rendement Synthétiq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.R.S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11280" y="3429000"/>
            <a:ext cx="392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urée: 3 heu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42920" y="4437000"/>
            <a:ext cx="67849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Xavier Poti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fesseur de Génie Mécaniq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6922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Verdana"/>
              </a:rPr>
              <a:t>Transfert en entrepri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124000" y="765000"/>
            <a:ext cx="6551280" cy="1047240"/>
            <a:chOff x="2124000" y="765000"/>
            <a:chExt cx="6551280" cy="1047240"/>
          </a:xfrm>
        </p:grpSpPr>
        <p:sp>
          <p:nvSpPr>
            <p:cNvPr id="313" name=""/>
            <p:cNvSpPr/>
            <p:nvPr/>
          </p:nvSpPr>
          <p:spPr>
            <a:xfrm>
              <a:off x="2871360" y="765000"/>
              <a:ext cx="632160" cy="275400"/>
            </a:xfrm>
            <a:prstGeom prst="rightArrow">
              <a:avLst>
                <a:gd name="adj1" fmla="val 50000"/>
                <a:gd name="adj2" fmla="val 57386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24000" y="1204200"/>
              <a:ext cx="172080" cy="164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96080" y="1204200"/>
              <a:ext cx="172080" cy="164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68520" y="1204200"/>
              <a:ext cx="172080" cy="164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40960" y="1204200"/>
              <a:ext cx="172080" cy="164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80880" y="1039320"/>
              <a:ext cx="172080" cy="164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53320" y="1039320"/>
              <a:ext cx="172080" cy="164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26840" y="1039320"/>
              <a:ext cx="172080" cy="164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39200" y="874080"/>
              <a:ext cx="172080" cy="164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11280" y="874080"/>
              <a:ext cx="172080" cy="1648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92920" y="765000"/>
              <a:ext cx="631800" cy="275400"/>
            </a:xfrm>
            <a:prstGeom prst="rightArrow">
              <a:avLst>
                <a:gd name="adj1" fmla="val 50000"/>
                <a:gd name="adj2" fmla="val 57353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8200" y="1205280"/>
              <a:ext cx="172080" cy="164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40280" y="1205280"/>
              <a:ext cx="172080" cy="164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812720" y="1205280"/>
              <a:ext cx="172080" cy="164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85160" y="1205280"/>
              <a:ext cx="172080" cy="1648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25080" y="1040400"/>
              <a:ext cx="172080" cy="16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97520" y="1040400"/>
              <a:ext cx="172080" cy="16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71040" y="1040400"/>
              <a:ext cx="172080" cy="1645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31120" y="1206720"/>
              <a:ext cx="172080" cy="164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503200" y="1206720"/>
              <a:ext cx="172080" cy="164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18000" y="819720"/>
              <a:ext cx="573480" cy="220680"/>
            </a:xfrm>
            <a:prstGeom prst="rightArrow">
              <a:avLst>
                <a:gd name="adj1" fmla="val 49685"/>
                <a:gd name="adj2" fmla="val 2918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79120" y="819720"/>
              <a:ext cx="2413440" cy="220680"/>
            </a:xfrm>
            <a:prstGeom prst="rightArrow">
              <a:avLst>
                <a:gd name="adj1" fmla="val 49685"/>
                <a:gd name="adj2" fmla="val 12283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42360" y="1535760"/>
              <a:ext cx="172440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ertes de tem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68520" y="1534320"/>
              <a:ext cx="235656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ertes pour non Qual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755640" y="2060640"/>
            <a:ext cx="1944720" cy="3682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mp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3068640"/>
            <a:ext cx="1944720" cy="5806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mps brut de foncti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4221000"/>
            <a:ext cx="1944720" cy="5806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mps net de foncti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5640" y="5157720"/>
            <a:ext cx="1944720" cy="3682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mps u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43280" y="2924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43280" y="400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43280" y="5013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27640" y="2131920"/>
            <a:ext cx="1081080" cy="3373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27640" y="2563920"/>
            <a:ext cx="2592360" cy="3373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ngements de sé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27640" y="2997360"/>
            <a:ext cx="3240000" cy="3373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rrêts pour remise en ro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429000"/>
            <a:ext cx="1081080" cy="3373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t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427640" y="3860640"/>
            <a:ext cx="2089080" cy="337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cro défaill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27640" y="4292640"/>
            <a:ext cx="2089080" cy="337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lentiss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27640" y="4797360"/>
            <a:ext cx="2665440" cy="3373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tes pour non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67280" y="2133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588000" y="3860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20000" y="256536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920" y="2997360"/>
            <a:ext cx="14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80000" y="3429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4292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93080" y="4653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093080" y="4869000"/>
            <a:ext cx="13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92360" y="566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95640" y="5877000"/>
            <a:ext cx="244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84720" y="5950080"/>
            <a:ext cx="23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11640" y="5373720"/>
            <a:ext cx="1944720" cy="3682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mps u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11640" y="5950080"/>
            <a:ext cx="1944720" cy="3682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mp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5661000"/>
            <a:ext cx="1008360" cy="3682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.R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692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fert en entre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5640" y="1555920"/>
            <a:ext cx="1944720" cy="3682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ux br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16360" y="1555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19640" y="177156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35280" y="1052640"/>
            <a:ext cx="1944720" cy="5806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mps brut de foncti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635280" y="1916280"/>
            <a:ext cx="1944720" cy="3682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mp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227640" y="13399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cateur de la disponibil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26920" y="3213000"/>
            <a:ext cx="1944720" cy="64260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ux d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91636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19640" y="357336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635280" y="2852640"/>
            <a:ext cx="1944720" cy="5806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mps net de foncti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635280" y="3718080"/>
            <a:ext cx="1944720" cy="5806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mps brut de foncti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27640" y="31417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cateur de la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00000" y="4941720"/>
            <a:ext cx="1944720" cy="3682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ux de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91636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19640" y="5300640"/>
            <a:ext cx="24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635280" y="4797360"/>
            <a:ext cx="1944720" cy="3682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mps u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635280" y="5445000"/>
            <a:ext cx="1944720" cy="5806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mps net de foncti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300720" y="48690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cateur de la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692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Transfert en entrep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8360" y="1123920"/>
            <a:ext cx="8280360" cy="3682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mps re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9640" y="2131920"/>
            <a:ext cx="5904000" cy="337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mps brut de foncti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43640" y="2131920"/>
            <a:ext cx="2374920" cy="3373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te de disponibi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12720" y="3211560"/>
            <a:ext cx="3672000" cy="337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mps net de foncti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3211560"/>
            <a:ext cx="2232000" cy="337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te perform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4292640"/>
            <a:ext cx="1657440" cy="337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mps u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68360" y="4292640"/>
            <a:ext cx="2160720" cy="33732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tes  non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443280" y="1484280"/>
            <a:ext cx="230508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4284360" y="2492280"/>
            <a:ext cx="21589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268000" y="3571920"/>
            <a:ext cx="201636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8200" y="5084640"/>
            <a:ext cx="1008000" cy="3682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.R.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19280" y="50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050920" y="5300640"/>
            <a:ext cx="172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22560" y="4869000"/>
            <a:ext cx="1512720" cy="337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mps u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122560" y="5372280"/>
            <a:ext cx="1512720" cy="337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mps req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780000" y="508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67280" y="5084640"/>
            <a:ext cx="1296720" cy="33732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ux br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0000" y="4940280"/>
            <a:ext cx="1656000" cy="5806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ux de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524720" y="4940280"/>
            <a:ext cx="1295280" cy="58068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ux d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292720" y="5084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6000" y="50846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64000" y="1627200"/>
            <a:ext cx="1297080" cy="33732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ux br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050920" y="2708280"/>
            <a:ext cx="2448000" cy="33732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ux de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3716280"/>
            <a:ext cx="1944720" cy="337320"/>
          </a:xfrm>
          <a:prstGeom prst="rect">
            <a:avLst/>
          </a:prstGeom>
          <a:solidFill>
            <a:srgbClr val="00ff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ux d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284720" y="57340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rme:NFE 60-1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484360" y="765000"/>
          <a:ext cx="4392720" cy="2700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765000"/>
                    <a:ext cx="439272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2484360" y="3573360"/>
          <a:ext cx="4392720" cy="2702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3573360"/>
                    <a:ext cx="4392720" cy="27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692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Votre expé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1332000" y="1341360"/>
            <a:ext cx="66387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692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Votre expé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324000" y="3068640"/>
            <a:ext cx="3809880" cy="27525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4572000" y="3068640"/>
            <a:ext cx="3809880" cy="27622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3419640" y="1197000"/>
            <a:ext cx="12380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692280"/>
            <a:ext cx="309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92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De quoi allons nous parl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556000" y="2492280"/>
            <a:ext cx="3528720" cy="936720"/>
            <a:chOff x="2556000" y="2492280"/>
            <a:chExt cx="3528720" cy="936720"/>
          </a:xfrm>
        </p:grpSpPr>
        <p:sp>
          <p:nvSpPr>
            <p:cNvPr id="61" name=""/>
            <p:cNvSpPr/>
            <p:nvPr/>
          </p:nvSpPr>
          <p:spPr>
            <a:xfrm>
              <a:off x="2556000" y="2492280"/>
              <a:ext cx="3528720" cy="936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43280" y="2781000"/>
              <a:ext cx="31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UTIL DE P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692360" y="2781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2781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234792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ettenschweiler"/>
              </a:rPr>
              <a:t>Produit forme init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234792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ettenschweiler"/>
              </a:rPr>
              <a:t>Produit form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27280" y="184464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4000" y="1413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ettenschweiler"/>
              </a:rPr>
              <a:t>O.F. de la GP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184464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1413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ettenschweiler"/>
              </a:rPr>
              <a:t>Out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84464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1413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ettenschweiler"/>
              </a:rPr>
              <a:t>Contrô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184464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48360" y="1125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ettenschweiler"/>
              </a:rPr>
              <a:t>Modes  de foncti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987640" y="349956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284720" y="349956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580000" y="349956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076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ettenschweiler"/>
              </a:rPr>
              <a:t>Opérateurs rég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4076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ettenschweiler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4076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ettenschweiler"/>
              </a:rPr>
              <a:t>Respon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55640" y="2708280"/>
            <a:ext cx="863640" cy="863640"/>
            <a:chOff x="755640" y="2708280"/>
            <a:chExt cx="863640" cy="863640"/>
          </a:xfrm>
        </p:grpSpPr>
        <p:sp>
          <p:nvSpPr>
            <p:cNvPr id="82" name=""/>
            <p:cNvSpPr/>
            <p:nvPr/>
          </p:nvSpPr>
          <p:spPr>
            <a:xfrm>
              <a:off x="755640" y="3355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71640" y="3355920"/>
              <a:ext cx="21564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7280" y="3355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03280" y="3355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6920" y="3139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42920" y="3139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60360" y="3139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2923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00" y="2923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1640" y="2708280"/>
              <a:ext cx="215640" cy="215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7021440" y="2708280"/>
            <a:ext cx="863640" cy="863640"/>
            <a:chOff x="7021440" y="2708280"/>
            <a:chExt cx="863640" cy="863640"/>
          </a:xfrm>
        </p:grpSpPr>
        <p:sp>
          <p:nvSpPr>
            <p:cNvPr id="93" name=""/>
            <p:cNvSpPr/>
            <p:nvPr/>
          </p:nvSpPr>
          <p:spPr>
            <a:xfrm>
              <a:off x="7021440" y="3355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7440" y="3355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53440" y="3355920"/>
              <a:ext cx="21564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69080" y="3355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93080" y="3139920"/>
              <a:ext cx="21564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08720" y="3139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26160" y="3139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65800" y="2923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81800" y="2923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37440" y="2708280"/>
              <a:ext cx="216000" cy="215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124000" y="4653000"/>
            <a:ext cx="4608720" cy="288720"/>
          </a:xfrm>
          <a:prstGeom prst="rightArrow">
            <a:avLst>
              <a:gd name="adj1" fmla="val 49685"/>
              <a:gd name="adj2" fmla="val 1792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627280" y="5084640"/>
            <a:ext cx="331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Valeur ajouté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2781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55640" y="2708280"/>
            <a:ext cx="863640" cy="863640"/>
            <a:chOff x="755640" y="2708280"/>
            <a:chExt cx="863640" cy="863640"/>
          </a:xfrm>
        </p:grpSpPr>
        <p:sp>
          <p:nvSpPr>
            <p:cNvPr id="114" name=""/>
            <p:cNvSpPr/>
            <p:nvPr/>
          </p:nvSpPr>
          <p:spPr>
            <a:xfrm>
              <a:off x="755640" y="3355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71640" y="3355920"/>
              <a:ext cx="21564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87280" y="3355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03280" y="3355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6920" y="3139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42920" y="3139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60360" y="3139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0000" y="2923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6000" y="2923920"/>
              <a:ext cx="21600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71640" y="2708280"/>
              <a:ext cx="215640" cy="215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156360" y="2781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021440" y="2708280"/>
            <a:ext cx="863640" cy="863640"/>
            <a:chOff x="7021440" y="2708280"/>
            <a:chExt cx="863640" cy="863640"/>
          </a:xfrm>
        </p:grpSpPr>
        <p:sp>
          <p:nvSpPr>
            <p:cNvPr id="126" name=""/>
            <p:cNvSpPr/>
            <p:nvPr/>
          </p:nvSpPr>
          <p:spPr>
            <a:xfrm>
              <a:off x="7021440" y="3355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37440" y="3355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53440" y="3355920"/>
              <a:ext cx="21564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69080" y="3355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93080" y="3139920"/>
              <a:ext cx="21564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8720" y="3139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26160" y="3139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65800" y="2923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81800" y="292392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7440" y="2708280"/>
              <a:ext cx="216000" cy="215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627280" y="2852640"/>
            <a:ext cx="3456000" cy="289080"/>
          </a:xfrm>
          <a:prstGeom prst="rightArrow">
            <a:avLst>
              <a:gd name="adj1" fmla="val 49685"/>
              <a:gd name="adj2" fmla="val 13427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 flipH="1">
            <a:off x="899640" y="3787920"/>
            <a:ext cx="520920" cy="907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 flipH="1">
            <a:off x="3276360" y="1916280"/>
            <a:ext cx="1809720" cy="89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 flipH="1">
            <a:off x="6948000" y="3787920"/>
            <a:ext cx="1011240" cy="601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24000" y="1916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ettenschweiler"/>
              </a:rPr>
              <a:t>Coûts mat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16360" y="32115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ettenschweiler"/>
              </a:rPr>
              <a:t>Coûts de production + coûts fi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04000" y="19875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aettenschweiler"/>
              </a:rPr>
              <a:t>Prix de v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92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De quoi allons nous parl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92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De quoi allons nous parler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49440" y="3789360"/>
            <a:ext cx="792000" cy="360360"/>
          </a:xfrm>
          <a:prstGeom prst="rightArrow">
            <a:avLst>
              <a:gd name="adj1" fmla="val 50000"/>
              <a:gd name="adj2" fmla="val 5494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2720" y="4363920"/>
            <a:ext cx="216000" cy="21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4363920"/>
            <a:ext cx="216000" cy="21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4720" y="4363920"/>
            <a:ext cx="215640" cy="21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4363920"/>
            <a:ext cx="216000" cy="21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148280"/>
            <a:ext cx="215640" cy="21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4148280"/>
            <a:ext cx="216000" cy="21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17440" y="4148280"/>
            <a:ext cx="216000" cy="21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7080" y="3932280"/>
            <a:ext cx="216000" cy="21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3080" y="3932280"/>
            <a:ext cx="216000" cy="216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88000" y="378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08720" y="4365720"/>
            <a:ext cx="216000" cy="21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4720" y="4365720"/>
            <a:ext cx="216000" cy="21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4365720"/>
            <a:ext cx="216000" cy="21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956720" y="4365720"/>
            <a:ext cx="215640" cy="215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80360" y="4149720"/>
            <a:ext cx="21600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96360" y="4149720"/>
            <a:ext cx="21564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13800" y="4149720"/>
            <a:ext cx="215640" cy="216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9800" y="43671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605800" y="43671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84360" y="3860640"/>
            <a:ext cx="719280" cy="289080"/>
          </a:xfrm>
          <a:prstGeom prst="rightArrow">
            <a:avLst>
              <a:gd name="adj1" fmla="val 49685"/>
              <a:gd name="adj2" fmla="val 279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4360" y="2852640"/>
            <a:ext cx="691200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27640" y="29973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20720" y="1844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84360" y="1771560"/>
            <a:ext cx="862920" cy="863640"/>
            <a:chOff x="684360" y="1771560"/>
            <a:chExt cx="862920" cy="863640"/>
          </a:xfrm>
        </p:grpSpPr>
        <p:sp>
          <p:nvSpPr>
            <p:cNvPr id="177" name=""/>
            <p:cNvSpPr/>
            <p:nvPr/>
          </p:nvSpPr>
          <p:spPr>
            <a:xfrm>
              <a:off x="684360" y="2419200"/>
              <a:ext cx="21564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0000" y="2419200"/>
              <a:ext cx="21528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15640" y="2419200"/>
              <a:ext cx="21564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31640" y="2419200"/>
              <a:ext cx="21564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5280" y="2203200"/>
              <a:ext cx="21564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1280" y="2203200"/>
              <a:ext cx="21564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88720" y="2203200"/>
              <a:ext cx="21564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8360" y="1987200"/>
              <a:ext cx="21564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44360" y="1987200"/>
              <a:ext cx="215640" cy="21600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000" y="1771560"/>
              <a:ext cx="215280" cy="21564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084720" y="18446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950160" y="1771560"/>
            <a:ext cx="863640" cy="863640"/>
            <a:chOff x="6950160" y="1771560"/>
            <a:chExt cx="863640" cy="863640"/>
          </a:xfrm>
        </p:grpSpPr>
        <p:sp>
          <p:nvSpPr>
            <p:cNvPr id="189" name=""/>
            <p:cNvSpPr/>
            <p:nvPr/>
          </p:nvSpPr>
          <p:spPr>
            <a:xfrm>
              <a:off x="6950160" y="24192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66160" y="24192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82160" y="2419200"/>
              <a:ext cx="21564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97800" y="24192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21800" y="2203200"/>
              <a:ext cx="21564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37440" y="22032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54880" y="22032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94520" y="19872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10520" y="1987200"/>
              <a:ext cx="216000" cy="216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66160" y="1771560"/>
              <a:ext cx="216000" cy="215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556000" y="1916280"/>
            <a:ext cx="3456000" cy="288720"/>
          </a:xfrm>
          <a:prstGeom prst="rightArrow">
            <a:avLst>
              <a:gd name="adj1" fmla="val 49685"/>
              <a:gd name="adj2" fmla="val 1344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12682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ésultats prév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3284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ésultats obt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4000" y="3860640"/>
            <a:ext cx="3024000" cy="289080"/>
          </a:xfrm>
          <a:prstGeom prst="rightArrow">
            <a:avLst>
              <a:gd name="adj1" fmla="val 49685"/>
              <a:gd name="adj2" fmla="val 1174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63640" y="4797360"/>
            <a:ext cx="2160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tes de te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4797360"/>
            <a:ext cx="2952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tes pour non 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544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poni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4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64000" y="5445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92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Pourquoi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5940360" y="909720"/>
            <a:ext cx="1801800" cy="809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156360" y="2062080"/>
            <a:ext cx="1285920" cy="70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26920" y="1197000"/>
            <a:ext cx="33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currence, compéti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227640" y="2997360"/>
            <a:ext cx="1224000" cy="10285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826920" y="220500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loiter au mieux ces équip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6372360" y="4653000"/>
            <a:ext cx="911160" cy="9586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26920" y="3213000"/>
            <a:ext cx="446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alyser l’outil de produ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.R.S. indicateur de la Produ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870440"/>
            <a:ext cx="46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tablir un plan d’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692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Analogie au trans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84360" y="1052640"/>
            <a:ext cx="2016000" cy="131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059280" y="1125360"/>
            <a:ext cx="5400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s vacances c’est fini 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tour en voiture avec toute la petite fami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ice Annecy. Mon GPS calcul 466 Km départ 9h00 arrivée prévue 14h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1116000" y="2708280"/>
            <a:ext cx="952560" cy="828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971800" y="3124080"/>
            <a:ext cx="46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Calculateur de bord ne peut prévoir les aléas de la circulation ,ni mes décisions de conducte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826920" y="364500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987640" y="4581360"/>
            <a:ext cx="460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Temps initialement calculé représentait la meilleure performance possible en fonction d’un itinéraire donné et des contraintes (limitation de vit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1116000" y="4724280"/>
            <a:ext cx="952560" cy="943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1763640" y="364500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692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Analogie au trans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84360" y="1052640"/>
            <a:ext cx="2016000" cy="131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059280" y="1197000"/>
            <a:ext cx="52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e dans le TRS, voila un idéal théoriquement atteignable, mais les aléas et les arrêts décidés vont détériorer la performan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914400" y="3048120"/>
            <a:ext cx="1873080" cy="565200"/>
            <a:chOff x="914400" y="3048120"/>
            <a:chExt cx="1873080" cy="565200"/>
          </a:xfrm>
        </p:grpSpPr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914400" y="3048120"/>
              <a:ext cx="18032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130040" y="311940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NNE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3132000" y="2276640"/>
            <a:ext cx="44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5h13 nous sommes à la maison.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6h1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c’est la durée du voyage alors que mon ordinateur m’avait prédit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h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132000" y="3284640"/>
            <a:ext cx="517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5h21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uées divisées par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6h13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ffectives cela fait un rapport de 0.85 soit un ratio d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85%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Pas mal si c’était un TRS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1332000" y="4365720"/>
            <a:ext cx="923760" cy="923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132000" y="4365720"/>
            <a:ext cx="511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e téléphone à un copain et lui annonce mon rendement routier de 85%. Il a une perception rapide de ma performance mais pas sur ce qui m’a fait perd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692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Analogie au trans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596360" y="270828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7524720" y="1773360"/>
            <a:ext cx="952560" cy="828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7524720" y="836640"/>
            <a:ext cx="852480" cy="852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556000" y="981000"/>
            <a:ext cx="446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lle est la part des arrêts programm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56000" y="198900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elle des arrêts par aléas de la circulation et des incidents techniques sur votre véhic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2924280"/>
            <a:ext cx="54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ent ont pesées les variations de vite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24000" y="414828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ndemen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6"/>
          <a:stretch/>
        </p:blipFill>
        <p:spPr>
          <a:xfrm>
            <a:off x="3995640" y="4076640"/>
            <a:ext cx="503280" cy="498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4932360" y="3860640"/>
            <a:ext cx="952560" cy="828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8"/>
          <a:stretch/>
        </p:blipFill>
        <p:spPr>
          <a:xfrm>
            <a:off x="6299280" y="36320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9"/>
          <a:stretch/>
        </p:blipFill>
        <p:spPr>
          <a:xfrm>
            <a:off x="3780000" y="4724280"/>
            <a:ext cx="952200" cy="943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0"/>
          <a:stretch/>
        </p:blipFill>
        <p:spPr>
          <a:xfrm>
            <a:off x="5148360" y="4940280"/>
            <a:ext cx="718920" cy="625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1"/>
          <a:stretch/>
        </p:blipFill>
        <p:spPr>
          <a:xfrm>
            <a:off x="6443640" y="4724280"/>
            <a:ext cx="852480" cy="8524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572000" y="414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6000" y="407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88000" y="50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50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132000" y="57340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TRS est une vue synthétique mais pas toujours suffisante pour ag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9236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0" y="0"/>
            <a:ext cx="16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332000" cy="4158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1187280" y="33336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280" y="6308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9280" y="63817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tion GGB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6669000"/>
            <a:ext cx="87138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692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Verdana"/>
              </a:rPr>
              <a:t>Analogie au trans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765000"/>
            <a:ext cx="489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r quoi puis-je agir pour amélior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1042920" y="1197000"/>
            <a:ext cx="1224000" cy="7858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771640" y="1197000"/>
            <a:ext cx="4392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nger la date et l’heure de dépa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fficile il y a des contrai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826920" y="2205000"/>
            <a:ext cx="1727280" cy="3970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2771640" y="206064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nger d’itinéraire: c’est introduire d’autres paramètres et prendre d’autres ris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258920" y="2852640"/>
            <a:ext cx="952560" cy="9432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2666880" y="2819520"/>
            <a:ext cx="575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 rendement entre vitesse théorique et réelle est obligatoirement inférieure à 1 (sauf si par exemple on dépasse les limites de vite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611280" y="3860640"/>
            <a:ext cx="952560" cy="828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771640" y="3860640"/>
            <a:ext cx="55342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s aléas de circulation et les incidents techniques : incontrôl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es arrêts à la pompe: obligato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1692360" y="39337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1258920" y="4941720"/>
            <a:ext cx="780840" cy="7718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771640" y="5013360"/>
            <a:ext cx="43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sécurité est non négoc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8:56:39Z</dcterms:created>
  <dc:creator>Potié</dc:creator>
  <dc:description/>
  <dc:language>en-US</dc:language>
  <cp:lastModifiedBy>JMA</cp:lastModifiedBy>
  <dcterms:modified xsi:type="dcterms:W3CDTF">2011-02-14T18:28:04Z</dcterms:modified>
  <cp:revision>61</cp:revision>
  <dc:subject/>
  <dc:title>Diapositive 1</dc:title>
</cp:coreProperties>
</file>