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980-7959-41D5-A889-14FEE6F2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0C6-2BD9-404F-8C75-DA5CB0CD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636-BD38-42CF-A572-DF1E65D0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5ADE-C617-4DE0-8EE1-85E67339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D66-CF27-40AA-94BB-A44F7B0D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30E-65DD-48BC-AD3C-FE1F57B3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72F-B1F1-460A-8622-0D8C3706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282-3B12-4838-833B-68734477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574-D3E1-478B-B349-49E17B4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3CA-3993-4926-B74D-5B2AF1CF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1EB-3337-48C8-B160-24C8B1D0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17FF-DDDA-40BB-A275-1B0DEFA4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9A1B-8EE7-44CB-9BF8-305809CB54D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ALYSE DES MODES DE DEFAILLANCE DE LEURS EFFETS ET DE LEUR CRITICITE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1628280"/>
            <a:ext cx="860436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OBJECTIFS DU COU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MDEC définition et différente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marche de mise en œuvre d’une AMDEC MOYEN D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finition des modes de défaillance et des causes d’une défail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Criticité : indice quantitatif utilisé dans la méthode, exemple d’AM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.M.D.E.C. Prod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.M.D.E.C. Proc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.M.D.E.C. Moyen de production (mach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BJECTIF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er les conséquences des défaillanc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r les modes de défaillanc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éciser pour chaque mode de défaillance les moyens et les procédures de détec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éterminer l’importance ou la criticité de chaque mode de défailla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er les modes de défailla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blir des échelles de signification et de probabilité de défail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1042920" y="476280"/>
            <a:ext cx="6757920" cy="5632560"/>
            <a:chOff x="1042920" y="476280"/>
            <a:chExt cx="6757920" cy="5632560"/>
          </a:xfrm>
        </p:grpSpPr>
        <p:sp>
          <p:nvSpPr>
            <p:cNvPr id="46" name=""/>
            <p:cNvSpPr/>
            <p:nvPr/>
          </p:nvSpPr>
          <p:spPr>
            <a:xfrm>
              <a:off x="1833480" y="1512360"/>
              <a:ext cx="2543400" cy="14680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.M.D.E.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lyse des 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M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des de 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éfaillance de leurs 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fets et leur </a:t>
              </a:r>
              <a:r>
                <a:rPr b="1" lang="en-US" sz="1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iticit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274280" y="3292560"/>
              <a:ext cx="3391200" cy="32760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.M.D.E.C. Moyen de production (machin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043960" y="476280"/>
              <a:ext cx="2743560" cy="22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alyse de la conception d'un produit pour améliorer la qualité et la fiabilité prévisionnel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s solutions technologiques doivent correspondent au cahier des charge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ette AMDEC est rédigée sous la responsabilité du bureau d'étude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 conséquences des défaillances sont visibles par le cli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52240" y="4178160"/>
              <a:ext cx="3648600" cy="1930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Analyse de fonctionnement du moyen pour améliorer la disponibilité (fiabilité et maintenabilité) et la sécurité. A ce stade est pris en compte la fiabilité opérationnelle (issue des historiques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ette AMDEC est rédigée sous la responsabilité du service de maintenanc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Les conséquences des défaillances ne sont visibles que par la productio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42920" y="4160160"/>
              <a:ext cx="2972160" cy="194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alyse des opérations de production pour améliorer la qualité de production, par voie de conséquence la qualité du produit ou du service rendu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tte AMDEC est rédigée sous la responsabilité du bureau des méthodes de fabrication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s conséquences des défaillances peuvent être visibles par le cli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66560" y="3319200"/>
              <a:ext cx="2107080" cy="30996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.M.D.E.C. Processu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78080" y="662040"/>
              <a:ext cx="1676520" cy="32760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.M.D.E.C. Produ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3464400">
              <a:off x="2387160" y="2446920"/>
              <a:ext cx="329400" cy="843840"/>
            </a:xfrm>
            <a:prstGeom prst="lightningBol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9304400">
              <a:off x="4146840" y="2185560"/>
              <a:ext cx="683280" cy="1324080"/>
            </a:xfrm>
            <a:prstGeom prst="lightningBol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43400" y="644400"/>
              <a:ext cx="1467000" cy="212400"/>
            </a:xfrm>
            <a:prstGeom prst="rightArrow">
              <a:avLst>
                <a:gd name="adj1" fmla="val 50000"/>
                <a:gd name="adj2" fmla="val 17266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38200" y="3691080"/>
              <a:ext cx="123840" cy="460440"/>
            </a:xfrm>
            <a:prstGeom prst="downArrow">
              <a:avLst>
                <a:gd name="adj1" fmla="val 50000"/>
                <a:gd name="adj2" fmla="val 9295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87160" y="3699720"/>
              <a:ext cx="123840" cy="460440"/>
            </a:xfrm>
            <a:prstGeom prst="downArrow">
              <a:avLst>
                <a:gd name="adj1" fmla="val 50000"/>
                <a:gd name="adj2" fmla="val 9295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9957000">
              <a:off x="2109600" y="847800"/>
              <a:ext cx="447480" cy="1000440"/>
            </a:xfrm>
            <a:prstGeom prst="lightningBol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THODOLOGIE AM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'AMDEC est une méthode participative. Fondée sur la mise en commun des expériences diverses et des connaissances de chaque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er clairement le problème,  à définir le contenu et les limites de l’étude à mener et à réunir tous les documents et informations nécessaires à son bon dérou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FONCTIONNELLE EX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coupage du système : découper en blocs fonc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finition de la phase de fonction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au point des supports de l’étud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SE FONCTIONNELL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des fonctions des élé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ASE ANALYSE (voir exe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ION DE LA CRITIC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ITION D’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cations techniques, changement de la méthode de maintenance appliquée et / ou par la mise en place de documents relatifs aux modes opératoires, aux procédur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7:44:51Z</dcterms:created>
  <dc:creator>JMA</dc:creator>
  <dc:description/>
  <dc:language>en-US</dc:language>
  <cp:lastModifiedBy>JMA</cp:lastModifiedBy>
  <dcterms:modified xsi:type="dcterms:W3CDTF">2010-03-01T08:07:17Z</dcterms:modified>
  <cp:revision>4</cp:revision>
  <dc:subject/>
  <dc:title>ANALYSE DES MODES DE DEFAILLANCE DE LEURS EFFETS ET DE LEUR CRITICITE </dc:title>
</cp:coreProperties>
</file>