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D809-31D5-4B61-B0EF-A1A3D742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EF1-98E3-45EE-A895-36A64353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47B-323A-4A14-BCCD-FE531069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282-B0BB-4D05-95A8-5D51B1B0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8150-7086-4EBD-AEB2-AB584408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7232-C618-4886-9697-3FC552E8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223B-F140-4316-9706-61C81DE1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0034-DD49-4FFF-BCC8-EC35B85B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AD81-1EB6-4086-B88D-13CF8634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1854-D1C9-4E76-B9B7-AFE9D9A8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2258-BEFC-4F79-8379-578CBB72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555-DD9D-4D75-9521-7F48D28F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EB65-92E1-4332-92B6-E6E9D83D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4DDA-3B25-47D9-9F8C-35EA7906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3517-F37B-45CB-A994-5DFC2C5E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B4B3-CDAE-45F6-B0C7-94A218B0C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4AC2-6193-4FDD-80A6-614DB5E3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F3C-48F8-473D-B5DA-0706BAA8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085-5184-48BC-B9A7-2D6A2296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8203-0F8E-4D07-A976-320FAF5DF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01F6-850F-4DB7-995E-2B4A777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A41C-A2AA-43E9-8FF0-AE29D6C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CCF8-2D24-45BA-A6F6-C823013B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4D2D-2396-4DB6-BBC7-77CB41CC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64B6-6BFA-44BA-B3A2-ACD3313BF0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4201-D981-4714-A367-57DA752115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69436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LA QUALITE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6600" spc="-1" strike="noStrike">
                <a:solidFill>
                  <a:srgbClr val="dbbd71"/>
                </a:solidFill>
                <a:latin typeface="Arial"/>
              </a:rPr>
              <a:t>LES 5 S</a:t>
            </a:r>
            <a:endParaRPr b="0" lang="en-US" sz="66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MENT FAIRE POUR TRIER ET DEBARRASSER 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éaliser un 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évoir les moyens nécessai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évoir la présence de la mainte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ndre des photos des postes et les affi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évoir un tableau de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MENT FAIRE POUR RANGER 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server le processus éventuel de ran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e l’inventaire des objets à r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élimiter et identifier l’emplacement et les obj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sir un mode de ran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évoir le nettoyage du po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ir compte du poids et de l’encombr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MENT RANGER 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énager le poste de trav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quer les emplac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iliter le repé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sir un mode de ran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er et délimiter les zones de trav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MENT NETTOYER 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e un état des lieux : où, quoi, qui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ttre l’outil à l’état de propreté souha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MENT CONSERVER EN ORDRE ET PROPRE 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er les natures et les causes de salis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miner et réduire les causes de salis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éfinir les méthodes de nettoy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COMMENT IMPLIQUER ET FORMALISER 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rire la liste de tâches à accomplir, le temps qu’il faut et leur périodic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r ensuite les dispositions que l’on prend pour conserver et améliorer les résultats obte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S POINTS 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OPERATION DEBARRASSER TR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résultat de l’opération doit être vi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faut impliquer tous les acteurs de l’entreprise pour le grand débarras et le nettoyage init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faut prendre et afficher des photos AVANT et AP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S POINTS 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OPERATION RA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résultat de l’opération doit être vi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acité afin de minimiser le temps de recher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écurité (attention aux chutes et heu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alité (attention à la rouille, aux coups, aux mélanges de piè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S POINTS 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OPERATION TENIR PROP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xer les priorités de nettoy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dre vers le zéro salis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évoir des moyens pour ne pas sal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acrer du temps au nettoy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éliorer l’environn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plifier le nettoy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iller à l’application des règles de nettoyag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S POINTS 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OPERATION STANDARDIS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ogénéiser dans l’entreprise toutes les procédures 5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rire les procé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 faire visualiser par les opérate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ualiser ce qu’il ne faut pas f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 1er regard, quand on arrive dans une entreprise, se porte sur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propre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bonne organisation des postes de trav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bonne organisation des burea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S POINTS CL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ahoma"/>
              </a:rPr>
              <a:t>OPERATION IMPLIQU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ter les problèmes dans l’ordre de leur appar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e participer tout le pers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ujours essayer de mieux f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uniquer en permanence dans l’entrep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OMAINES CONCERNES 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EL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ES DE TRAV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EA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LES DE REU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METHODOLOGIE DE MISE EN 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ituer un groupe d’animation 5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éfinir la politique des 5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éfinir le plan d’action 5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tre en place le plan d’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tre en place des indicateurs d’é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606096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 qualité d’une entreprise est jugée par sa clientèl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ravers la tenue, l’allure du personn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travers l’accueil réserv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 son réseau commer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 son siège so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 l’organisation des atel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es 5 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5S a pour origine la 1ère lettre des 5 opérations permettant de juger de la qualité d’une entrep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99ff"/>
                </a:solidFill>
                <a:latin typeface="Tahoma"/>
              </a:rPr>
              <a:t>Sei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99ff"/>
                </a:solidFill>
                <a:latin typeface="Tahoma"/>
              </a:rPr>
              <a:t>Seit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99ff"/>
                </a:solidFill>
                <a:latin typeface="Tahoma"/>
              </a:rPr>
              <a:t>Seis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99ff"/>
                </a:solidFill>
                <a:latin typeface="Tahoma"/>
              </a:rPr>
              <a:t>Seikets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6699ff"/>
                </a:solidFill>
                <a:latin typeface="Tahoma"/>
              </a:rPr>
              <a:t>Shitsuk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EIRI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uc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ébar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dégager ce qui embarrasse ou l’art de savoir j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faire la différence entre l’indispensable et l’inut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débarrasser tout ce qui encombre le poste de trav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EIT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uc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an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mettre les choses en ordre rapid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ranger chaque jour pour éviter toute perte de te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pouvoir retrouver en moins de 30 secondes un outil ou un docu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savoir quel outil ou quel document à utiliser pour une tâche préc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EIS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uc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ttoy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rendre net, propre en débarrassant de tout ce qui ternit ou sal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éliminer tous les déchets afin que le poste de travail soit prop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aussi contrôler l’état de fonctionnement de sa mach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EIKETSU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uc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rd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après avoir nettoyé et éliminé les causes de saliss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développer des habitudes et des efforts pour que tout reste en ord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l faut une gestion visuelle des habitudes pour respecter quotidiennement l’ord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HITSUK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uction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igue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mettre en place un système permettant de progresser et de ne pas revenir en arriè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’est transformer des habitudes en gestes natur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09:25:09Z</dcterms:created>
  <dc:creator>FAIGNER H.</dc:creator>
  <dc:description/>
  <dc:language>en-US</dc:language>
  <cp:lastModifiedBy>FAIGNER H.</cp:lastModifiedBy>
  <dcterms:modified xsi:type="dcterms:W3CDTF">2002-10-04T12:52:24Z</dcterms:modified>
  <cp:revision>12</cp:revision>
  <dc:subject/>
  <dc:title>LA QUALITE    LES 5 S</dc:title>
</cp:coreProperties>
</file>